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63B9C-16D2-4FC6-A138-B32DA7035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D1EC7-4AA2-4CF7-855B-08EDFFF4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6D4CC-60CA-4EAF-BA3E-33912FF8B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B6A04-EF59-4735-8AAC-1DA9D36A7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ECEB-24CF-4755-8818-93FF66D0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3ABB-D78A-4D56-8C29-A356FAE6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6D00-2BC6-4171-801C-5F6A22BD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3C42-20EB-4260-8E97-B3CAB1FB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F6B0-3BDD-4442-94B3-C29B06CB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2397-41D8-46FE-B784-790C3AE0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B9D4-02F6-4CFC-B9BC-780E42E2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F6AFC-5C94-40E7-BEC7-B9D51942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B134-7AEA-4710-A093-DBC6BBBF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FE63-656F-48A6-8B1B-844DD536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7794-0E65-4C2D-9E8F-8A39F911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6D59-FB44-4C41-BF9D-6F0C2F815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1CCF-B12B-4607-8335-0BFB9BE99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2B96B-2090-4291-8B54-24A536F8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7D7DA-BB6A-41B8-ACFF-94E1BA4C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D8E1E-B818-4BD0-886E-AE84AC02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D8339-20AF-48BC-A153-3A7C0B81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2DB04-8DD8-4B35-A01D-BD560E60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8D65D-E70E-44E9-A25F-D704B8A8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184D6-B066-4DDA-8F0F-C8FA5A35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D378-5BC5-40C4-83FE-53F1F42B50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FB31-D30F-4B38-89EA-D524B0BC20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The essential elements of Collaborative Learning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eachers with littl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lanning Collaborative Activiti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kills and aptitudes do your students possess? What skills do they lac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objectives the students must meet? What are your standards for the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hallenges and/or inequalities exist in the class? What diversity exis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ight collaborative learning address these and other nee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Motivating students for Collaborative Learning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must understand the spirit and purpose of collaborative learning before they will commit themselves to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irit of collaborative learning is that of “All for One and One for All”. It is a generous and noble spir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urpose of collaborative learning is preparation for real life, wherein we must work hard as a part of a team for the greater good and to earn our p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ollaborative Learning Skills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every student must master 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ibu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l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bri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llaborative Learning Rol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er: ensures that everyone contrib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rder: listens to the group and writes down what is sa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aker: reflects on what was recorded and reports to the teacher, other groups or the whole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keeper: ensures brevity by dividing the allotted time for work equally between mem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al World Skills gained through Collaborative Learning Rol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er: enfranchisement, accountability, kindness, toughness and other team-building skills ensures quality of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rder: listening for meaning and close questioning ensures compreh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aker: communicating to a broad range of people ensures cohe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keeper: planning group work and enabling total contribution ensures work comple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6:35:25Z</dcterms:created>
  <dc:creator>Guest</dc:creator>
  <dc:description/>
  <dc:language>en-US</dc:language>
  <cp:lastModifiedBy>Guest</cp:lastModifiedBy>
  <dcterms:modified xsi:type="dcterms:W3CDTF">2010-09-20T17:25:41Z</dcterms:modified>
  <cp:revision>3</cp:revision>
  <dc:subject/>
  <dc:title>The essential elements of Collaborative Learning</dc:title>
</cp:coreProperties>
</file>