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F98E-296D-4B2D-857E-4CF9075D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BD18-0BAF-4472-979A-EB054316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3CDF-C1A9-4F7E-A77C-53AD1A94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0B36-9CAF-4D57-83AD-AC1812C8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C5F3-E6D4-49F9-BE51-31978B89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25A9-DC81-48CF-AABD-091C207B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2FF7-E6FE-4E59-8CAE-46F61762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D7F-9648-41E2-BEE3-778C9C9E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6E3A-DD8F-405C-ACA9-E46EDDB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21B8-8F86-4831-8BEF-564A31F3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217D-4DB2-4CAB-BD38-27F6481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6566-1222-41EA-BED2-F6D5D9E7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362-965D-4D5A-B935-95362CF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FECD-B963-4922-BA2B-D9C8238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66FB-DEB8-4C5E-A8FB-3140E229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04FF-E038-4162-9E52-AAD76285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3283-8EE2-4A0C-B347-008E3487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BF49-1171-4927-90E0-6E11A22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09CA-3112-40DA-8BD5-EC59F323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968B-6E9C-4B6C-B18E-28220001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220C-3F9C-43CD-8B00-691EB60D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53F4-EE9D-47B3-81E5-E227FBF1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9616-A8EB-4FC1-8E93-A720D63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7E6F-283E-481A-B7A3-3232757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8FC3-DC85-4063-81C0-BDF01E216E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65BC-EE04-4D65-95A2-80F6E74D5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essential elements of Collaborative Learning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eachers with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ning Collaborative Activ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kills and aptitudes do your students possess? What skills do they la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bjectives the students must meet? What are your standards fo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llenges and/or inequalities exist in the class? What diversity ex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collaborative learning address these and othe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tivating students for Collaborative Learn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understand the spirit and purpose of collaborative learning before they will commit themselves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collaborative learning is that of “All for One and One for All”. It is a generous and noble spi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collaborative learning is preparation for real life, wherein we must work hard as a part of a team for the greater good and to earn our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llaborative Learning Skill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ry student must master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llaborative Learning Ro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ensures that everyone con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er: listens to the group and writes down what is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er: reflects on what was recorded and reports to the teacher, other groups or the who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keeper: ensures brevity by dividing the allotted time for work equally between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al World Skills gained through Collaborative Learning Rol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: enfranchisement, accountability, kindness, toughness and other team-building skills ensures quality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r: listening for meaning and close questioning ensures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er: communicating to a broad range of people ensures co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keeper: planning group work and enabling total contribution ensures work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35:25Z</dcterms:created>
  <dc:creator>Guest</dc:creator>
  <dc:description/>
  <dc:language>en-US</dc:language>
  <cp:lastModifiedBy>Guest</cp:lastModifiedBy>
  <dcterms:modified xsi:type="dcterms:W3CDTF">2010-09-20T17:25:41Z</dcterms:modified>
  <cp:revision>3</cp:revision>
  <dc:subject/>
  <dc:title>The essential elements of Collaborative Learning</dc:title>
</cp:coreProperties>
</file>