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6183-E56A-4ECE-BCDE-FFE1C21F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EB3B-2AA1-41D3-96AC-AE27FB5B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BA71-8D6B-430F-BA2E-0E2F4F33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122B-CF1B-4DBA-B9F6-D7D3EE22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25FA-2CCF-4F2A-BF38-07288FD8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3573-E0A6-4B3D-96C6-3C0D6F4B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7580-74FD-4583-AD19-7CD1A548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310A-7319-4266-A0B1-47F61D51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6C6B-6E46-4A03-A147-5CD52CAC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C4A8-5DFA-459A-A352-821AED81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654B-514E-4E52-B906-A4D773E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4655-6CA5-4ADE-887D-69DBAE7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5794-C4B2-4F7A-B3D8-739B503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D65B-8C42-4D25-B499-1FA49516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2456-5999-4A5F-964F-97629A7F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6DF4-4E00-463F-BB44-E0A30A26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AA8B-2643-4115-BDC0-05934BFC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0200-8120-4B78-8F16-C610FE7F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0349-7171-4870-8B54-1852EF0D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4B51-54A7-4DA7-A25E-8D502745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5B2B-035B-4AB2-878A-95E160BD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0270-4AF3-485E-B5AC-720F2326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B645-0017-491C-A966-7FF56D35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7434-05CA-4BEA-B51B-84B08879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438-4F52-4DEB-B686-C9ED52F55B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CDF5-A1D0-4300-82C5-ADE9AC81E8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e essential elements of Collaborative Learning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eachers with littl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nning Collaborative Activ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kills and aptitudes do your students possess? What skills do they la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bjectives the students must meet? What are your standards for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hallenges and/or inequalities exist in the class? What diversity ex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collaborative learning address these and other nee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tivating students for Collaborative Learn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ust understand the spirit and purpose of collaborative learning before they will commit themselves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 of collaborative learning is that of “All for One and One for All”. It is a generous and noble spir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of collaborative learning is preparation for real life, wherein we must work hard as a part of a team for the greater good and to earn our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llaborative Learning Skill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ry student must master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llaborative Learning Ro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: ensures that everyone con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er: listens to the group and writes down what is 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er: reflects on what was recorded and reports to the teacher, other groups or the who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keeper: ensures brevity by dividing the allotted time for work equally between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al World Skills gained through Collaborative Learning Rol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: enfranchisement, accountability, kindness, toughness and other team-building skills ensures quality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er: listening for meaning and close questioning ensures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er: communicating to a broad range of people ensures cohe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keeper: planning group work and enabling total contribution ensures work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35:25Z</dcterms:created>
  <dc:creator>Guest</dc:creator>
  <dc:description/>
  <dc:language>en-US</dc:language>
  <cp:lastModifiedBy>Guest</cp:lastModifiedBy>
  <dcterms:modified xsi:type="dcterms:W3CDTF">2010-09-20T17:25:41Z</dcterms:modified>
  <cp:revision>3</cp:revision>
  <dc:subject/>
  <dc:title>The essential elements of Collaborative Learning</dc:title>
</cp:coreProperties>
</file>