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0617-E575-497B-A90A-441EED37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3128-560E-4C01-9DB3-603E5E5F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E23E-8F52-4F23-A9CE-0E5E8EDD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F64D-B744-4F9E-B1CF-5DDAE767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9ACD-8578-4EA0-9926-C944E6AB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A686-11FB-4784-8F48-F7CE9E84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0A14-2179-4A7F-ACE0-21D281CA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FAF1-1EA4-49AE-89ED-9687F7A5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5EE0-A189-43CF-BD47-A28299DE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A15D-43B7-44B5-8219-DFDD1316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C58B-6840-4688-8B09-B0C29DA7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2A56-0136-4D94-967F-88C6AFCD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F557-2F05-4C06-84D9-D921B370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E130-47D5-4CEF-BF48-42A6E145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FA01-8812-447E-A0F6-740CB51B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806C-BC52-452D-AA94-1F0EC77D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F814-F8CF-47F9-B284-E909564A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E2EF-B374-46BB-A284-29019547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51F5-A970-469F-9195-74F4705B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3600-5BAE-419F-B408-D86A097F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F46F-4004-4688-B2A5-E2F9919F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E3F8-169C-456B-B985-B44EA1D0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69AC-4684-463B-BF13-47DAFD6B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D342-AA93-4F71-97F7-4E1876BD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AA69-F37D-40D3-B280-F345A0C8C5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03E0-4E27-4FD6-9508-4AAD50D621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The essential elements of Collaborative Learning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eachers with littl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nning Collaborative Activ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kills and aptitudes do your students possess? What skills do they lac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objectives the students must meet? What are your standards for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hallenges and/or inequalities exist in the class? What diversity exis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collaborative learning address these and other nee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otivating students for Collaborative Learning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must understand the spirit and purpose of collaborative learning before they will commit themselves to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irit of collaborative learning is that of “All for One and One for All”. It is a generous and noble spir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rpose of collaborative learning is preparation for real life, wherein we must work hard as a part of a team for the greater good and to earn our p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llaborative Learning Skills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very student must master 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br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llaborative Learning Ro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: ensures that everyone con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er: listens to the group and writes down what is 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er: reflects on what was recorded and reports to the teacher, other groups or the whol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keeper: ensures brevity by dividing the allotted time for work equally between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al World Skills gained through Collaborative Learning Rol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: enfranchisement, accountability, kindness, toughness and other team-building skills ensures quality of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er: listening for meaning and close questioning ensures compreh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er: communicating to a broad range of people ensures cohe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keeper: planning group work and enabling total contribution ensures work comp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6:35:25Z</dcterms:created>
  <dc:creator>Guest</dc:creator>
  <dc:description/>
  <dc:language>en-US</dc:language>
  <cp:lastModifiedBy>Guest</cp:lastModifiedBy>
  <dcterms:modified xsi:type="dcterms:W3CDTF">2010-09-20T17:25:41Z</dcterms:modified>
  <cp:revision>3</cp:revision>
  <dc:subject/>
  <dc:title>The essential elements of Collaborative Learning</dc:title>
</cp:coreProperties>
</file>