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9763D-7205-41A6-B2A4-E78DD0E6C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05F5B-6437-49C6-B6BC-F74CB323E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87958-2955-49CE-B258-2D10B08AC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F522A-FB80-4AD9-AA19-C9EF767D1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2D1AD-2DDB-4821-84A8-837791A1D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1C11F-5FE7-447F-9575-39DE00D6B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53B76-8C49-4FD6-BEC2-B29DAF288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8D045-5212-457F-91BE-508C00ED8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C968D-CE22-4096-A4FB-C4C8D5C91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963C0-7311-477A-B4EC-60446D7EB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9A035-9614-4813-8F58-C08C3E995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05A9C-B9E0-483B-8773-B065A1DB2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8E328-3247-4D3A-9305-17107FD8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953DC-EE4C-46AF-8F99-002D2314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81ACA-5DF7-4993-9AF2-1C41CFE8F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326E2-E94D-443B-B24F-C1A84EDAA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8A451-CDC1-4A80-9287-8892BDBF4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CF853-16F5-41AC-9045-59BFCD80C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7C354-A8AE-449C-A8DA-55166DA26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A6DEF-C8E6-48F3-9D35-B3EE43816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854AA-32C9-4582-AAE3-D8321D2D9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8A090-76BC-465E-86D4-152B6F7C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96EDC-CD9B-424C-BBA6-BBA0242C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0AA35-19C5-486F-9858-F6543730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AA13A-32BB-4F6E-A9A3-57C70EBEB18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01DAA-0936-41A5-ABDE-4DCCF2D8E87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The essential elements of Collaborative Learning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eachers with littl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Planning Collaborative Activiti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skills and aptitudes do your students possess? What skills do they lack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the objectives the students must meet? What are your standards for them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challenges and/or inequalities exist in the class? What diversity exis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ight collaborative learning address these and other need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Motivating students for Collaborative Learning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s must understand the spirit and purpose of collaborative learning before they will commit themselves to 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pirit of collaborative learning is that of “All for One and One for All”. It is a generous and noble spir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urpose of collaborative learning is preparation for real life, wherein we must work hard as a part of a team for the greater good and to earn our p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Collaborative Learning Skills</a:t>
            </a:r>
            <a:br>
              <a:rPr sz="4000"/>
            </a:b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every student must master 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ibu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s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l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brie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ollaborative Learning Rol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der: ensures that everyone contrib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order: listens to the group and writes down what is sa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aker: reflects on what was recorded and reports to the teacher, other groups or the whole cl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ekeeper: ensures brevity by dividing the allotted time for work equally between memb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Real World Skills gained through Collaborative Learning Role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er: enfranchisement, accountability, kindness, toughness and other team-building skills ensures quality of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rder: listening for meaning and close questioning ensures comprehen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aker: communicating to a broad range of people ensures cohe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ekeeper: planning group work and enabling total contribution ensures work comple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16:35:25Z</dcterms:created>
  <dc:creator>Guest</dc:creator>
  <dc:description/>
  <dc:language>en-US</dc:language>
  <cp:lastModifiedBy>Guest</cp:lastModifiedBy>
  <dcterms:modified xsi:type="dcterms:W3CDTF">2010-09-20T17:25:41Z</dcterms:modified>
  <cp:revision>3</cp:revision>
  <dc:subject/>
  <dc:title>The essential elements of Collaborative Learning</dc:title>
</cp:coreProperties>
</file>