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B652-425E-46EC-A23B-98FC1D90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7545-541E-4E1D-8413-19CB241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AE89-1A44-47E1-8356-36807986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1114-824B-4FB1-BB7F-F2A8B8D6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7AD8-6643-4900-9DAD-99AFB060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CFD2-F976-4290-8DAF-F8C34C72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4C99-0D9C-4928-89F5-459100FE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3314-9453-4A5F-9BDD-3516F928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58BF-344F-4275-8CF6-FE9DFFD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A582-552A-4178-B973-2ED14F81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73CD-9798-46BC-8957-86F1EF34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3470-FC15-4A6F-99FF-1EF54AAF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CF68-3D15-4DA3-97FE-329C1294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17D1-FE15-4F1B-BB86-4FDFD095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BB68-085B-49B6-BE76-A6A8EBD3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3D48-320E-4FA0-9A6D-273792E2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9C51-3E10-4E1B-AEB1-3297AB3B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F869-2133-47B0-AE98-FB60F8F3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C5AF-4A56-48AE-BB9E-21F9FF3D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E8FB-7269-4924-A4EE-DCFA958A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84B4-0A8E-4F82-9481-A2545269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2F59-6AFF-44A8-9388-428F848E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66A1-2A9A-4DE0-8E2C-7C49506C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231B-1CDC-4CFE-98FD-07061C2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BCDE-75F1-4DDA-8482-A9A862D91B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2FC3-1C76-4FBA-9D13-FAD0DC131D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he essential elements of Collaborative Learning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eachers with littl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nning Collaborative Activi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kills and aptitudes do your students possess? What skills do they la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bjectives the students must meet? What are your standards for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hallenges and/or inequalities exist in the class? What diversity exi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collaborative learning address these and other nee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tivating students for Collaborative Learning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ust understand the spirit and purpose of collaborative learning before they will commit themselves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 of collaborative learning is that of “All for One and One for All”. It is a generous and noble spir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of collaborative learning is preparation for real life, wherein we must work hard as a part of a team for the greater good and to earn our p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ollaborative Learning Skills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ry student must master 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llaborative Learning Ro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: ensures that everyone con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er: listens to the group and writes down what is 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er: reflects on what was recorded and reports to the teacher, other groups or the whol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keeper: ensures brevity by dividing the allotted time for work equally between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Real World Skills gained through Collaborative Learning Rol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: enfranchisement, accountability, kindness, toughness and other team-building skills ensures quality of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er: listening for meaning and close questioning ensures compreh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er: communicating to a broad range of people ensures cohe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keeper: planning group work and enabling total contribution ensures work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35:25Z</dcterms:created>
  <dc:creator>Guest</dc:creator>
  <dc:description/>
  <dc:language>en-US</dc:language>
  <cp:lastModifiedBy>Guest</cp:lastModifiedBy>
  <dcterms:modified xsi:type="dcterms:W3CDTF">2010-09-20T17:25:41Z</dcterms:modified>
  <cp:revision>3</cp:revision>
  <dc:subject/>
  <dc:title>The essential elements of Collaborative Learning</dc:title>
</cp:coreProperties>
</file>