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6DFBA-ECE1-43B9-AA23-07D3773281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28FBE-27C8-434A-A616-B924FB570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4217F-DA10-42CD-A31C-BF6CF1BE3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A33DA-5A39-4E1C-B651-3C943FE7A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6CCF7-77E6-425A-9F35-F2F154567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465FB-E719-4CB5-9C71-0F8747EBD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9709C-57DC-468F-8EBD-2F26C62FE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81039-C720-4BC5-9EF3-9FF5B4B4F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EF3D2-2D07-4EA8-8C45-14E5A2C42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125F6-037D-4892-B81C-C1D6F2122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EC534-89DF-444C-898D-0BAC98F98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459AD-5C2F-4BDE-A892-C1894324D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6FE48-136E-4883-BE32-DB7061742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BC109-457C-4E34-A927-4FC7339C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28582-8653-446B-968C-9EB67F624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21853-CA16-4B1C-B9F0-F02863C3A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eaky behavior because we tend to believe the words.  Students say they will do the work, which sounds compliant, but student produces nothing.  This is a choice behavior on the part of the student and shows noncompliance.  (Make sure that you that methods and material are appropriate for student and that there is not a learning disability or skill deficiency that could account for the behavio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200B2-2B86-4249-B3CD-F53ADB0B9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labels that can be behaviors that are addres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6B7FD-42E6-4BD8-831A-F50BB0517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52ACD-19E1-4668-8E75-CA50D2DE5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9F837-EB32-433C-9616-BC5205EE4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C5D94-6142-4CB9-A4A3-936B71AD3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6E18B-E96C-4552-825A-785CDE96D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DFADD-D6CC-473B-A544-D16A54AA7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B6B-9EF5-4623-A490-2303D66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09F-F385-4277-8827-7C27DC6B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6E9-3BBD-4C87-AA94-052A4EF3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EFF-FCF3-4246-A358-B544102B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598-A15F-460F-BD2C-C7EBFA6E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0D6-0D18-426C-A0D7-AAA1999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0BF-CF16-42A6-9C45-E8CD04A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9D7-4E03-4B1F-80B3-4D07084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95F-1BC8-4FC2-989D-CE2663AC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79B-586D-404A-AB3A-4F17491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6FE-009F-444D-B2BB-38E206F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9B5-5A2E-4D63-B39B-7D81A87B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4C409-7940-4242-B196-99983C51C50D}" type="datetime">
              <a:rPr b="0" lang="en-US" sz="1200" spc="-1" strike="noStrike">
                <a:solidFill>
                  <a:srgbClr val="898989"/>
                </a:solidFill>
                <a:latin typeface="Corbe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14824-5036-4CFA-8327-44A9DA9A542B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ke attention seeking behavior, power-seeking is displayed in </a:t>
            </a:r>
            <a:r>
              <a:rPr b="0" lang="en-US" sz="4000" spc="-1" strike="noStrike">
                <a:solidFill>
                  <a:srgbClr val="ff0000"/>
                </a:solidFill>
                <a:latin typeface="Corbel"/>
              </a:rPr>
              <a:t>act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4000" spc="-1" strike="noStrike">
                <a:solidFill>
                  <a:srgbClr val="0000ff"/>
                </a:solidFill>
                <a:latin typeface="Corbel"/>
              </a:rPr>
              <a:t>passiv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ode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ower seeker’s message is: “Let’s figh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hat are the six common passive power plays?  (Hint:  five of them are labels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Bloom’s litera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vs.</a:t>
            </a: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disability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Key tipoff is selectivity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student is capable of performing action when he/she selects independently but not when asked, you can be fairly sure you are dealing with a passive bid for pow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If you suspect a disability, be sure to make referral to support staff, beginning with guidance offic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rbel"/>
              </a:rPr>
              <a:t>Power-Seeking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emotional pressure gauge rises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Our impulsive reaction is to regain control by fighting back with words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924"/>
              </a:spcBef>
              <a:buClr>
                <a:srgbClr val="000000"/>
              </a:buClr>
              <a:buFont typeface="Corbel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Student’s response to correction is slow and reluctant compared to an attention seeker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sponses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of power hungry student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spond to correction s-l-o-w-l-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peat the behavior one more tim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Mumble under their breath—loud enough for us to know they are muttering but not loud enough to hear the exact word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Principles of preventio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llow voice and choi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Grant legitimate power.  (What type of management style discussed in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lesson would work to help prevent power struggles? *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elegate responsibility.  (Give students a sense of ownership.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*Bloom’s level of understand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etaliation for real or imagined hurt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 result of lost power struggl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uld be anger at parents, other teachers, administrators or pe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17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Revenge-seeking behavior</a:t>
            </a:r>
            <a:br>
              <a:rPr sz="5400"/>
            </a:br>
            <a:r>
              <a:rPr b="0" lang="en-US" sz="5400" spc="-1" strike="noStrike">
                <a:solidFill>
                  <a:srgbClr val="b50b1b"/>
                </a:solidFill>
                <a:latin typeface="Corbel"/>
              </a:rPr>
              <a:t>“I’ll get even”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Direct phys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direct physical attacks (active)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sychological attack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Violation of values (act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ithdrawal (passive)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rbel"/>
              </a:rPr>
              <a:t>Revenge-Seeking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havior Clues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pressure gauge is is at the boiling point.  We feel anger, frustration, hurt and dislike for student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Our reaction is to strike back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s behavior usually intensifies before it stop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Guidelines for interventions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rbel"/>
              </a:rPr>
              <a:t>for power and reveng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uild caring relationships. (Separate the deed from the doer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Deal with the moment.  Avoid references to the past or the future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Teach appropriate expressions of feeling.  (Invite them to talk when they are upset.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743040" indent="-7430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rbel"/>
              </a:rPr>
              <a:t>Be firm and friendly.  “What you are doing must stop right now, but I still like you.”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buClr>
                <a:srgbClr val="000000"/>
              </a:buClr>
              <a:buFont typeface="Corbel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ontrol negative emotions—anger, frustration, fear.  Feel free to release negative emotions later—in privat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5.  Avoid escalating the situa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6.  Discuss misbehavior later—avoids emotionalis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7. Allow students to save face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ctive Power Seeking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llenging authority:  “You can’t make me do i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Holley doesn’t make his class do the extra stuff, so I’m not going to do it either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noise or drawing attention to themsel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Role play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escalat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Teacher behavior that defuses the situatio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Teacher behaviors to avoi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32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aising voi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el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ying, “I’m the boss here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on the last wor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degrading or embarrassing put-dow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sarcasm or humil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ttacking student’s charac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cting superio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Using physical for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ource: 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operative Disciplin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y Linda Albe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417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sisting teacher is righ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reach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assump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leading or brib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Generalizing about students (“All you _________’s are the same wa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unsubstantiated accusation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olding a grudg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Nagg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rowing a temper tantru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imick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Making comparisons with siblings, other stud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anding, demanding, dominat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warding the stud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Passive Power Seeking Styles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Quiet </a:t>
            </a: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noncomplian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void obvious battle by smiling and say what teachers want to hear but. . . . . . .Doing what they want to do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Words say “I will” but actions say “I won’t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8740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bels of Passive Behavior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az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Forgetful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hort attention spa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Underachieving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Listening problem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azy</a:t>
            </a:r>
            <a:br>
              <a:rPr sz="5400"/>
            </a:br>
            <a:r>
              <a:rPr b="0" lang="en-US" sz="5400" spc="-1" strike="noStrike">
                <a:solidFill>
                  <a:srgbClr val="1d86cd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shows up without assignment and says, “Sorry, I was lazy.  I’ll have it next time” instead of “I really didn’t feel like doing homework this weekend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hosen behavior that we can work to change, especially after it has been identified as power seeking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Forgetful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 forgot to do it” sounds better than “I refused  to do it.”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‘forgetfulness’  Student can remember other, more pleasant, things like phone numbers and TV show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Short attention span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elective attention is chosen as reason for not concentrating in class, but the same student can play same video game for hours trying to win the game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Underachieving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decides how much work he/she will do and at what level he/she will achieve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Student has capability of earning As while his/her average is C because he/she makes the </a:t>
            </a:r>
            <a:r>
              <a:rPr b="0" lang="en-US" sz="4000" spc="-1" strike="noStrike">
                <a:solidFill>
                  <a:srgbClr val="b50b1b"/>
                </a:solidFill>
                <a:latin typeface="Corbel"/>
              </a:rPr>
              <a:t>choice 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in study habi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0000ff"/>
                </a:solidFill>
                <a:latin typeface="Corbel"/>
              </a:rPr>
              <a:t>Listening problems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ear what is said but choose not to listen—either to notes or assignments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gain, the student is choosing not to hear what is needed and is displaying a form a passive power play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4:33:49Z</dcterms:created>
  <dc:creator>Sharon winzeler</dc:creator>
  <dc:description/>
  <dc:language>en-US</dc:language>
  <cp:lastModifiedBy>Sharon Winzeler</cp:lastModifiedBy>
  <cp:lastPrinted>2010-07-11T18:20:51Z</cp:lastPrinted>
  <dcterms:modified xsi:type="dcterms:W3CDTF">2010-07-12T11:51:50Z</dcterms:modified>
  <cp:revision>24</cp:revision>
  <dc:subject/>
  <dc:title>Slide 1</dc:title>
</cp:coreProperties>
</file>