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ABAEAB-DB89-418F-92D0-93DA5105FCB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D9A6BC-9CC5-40E1-BAFF-63D43FF271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8AAB1D-DA64-4101-AA10-AA91689CB5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2D3B2C-82EA-4E18-8255-44F1059449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neaky behavior because we tend to believe the words.  Students say they will do the work, which sounds compliant, but student produces nothing.  This is a choice behavior on the part of the student and shows noncompliance.  (Make sure that you that methods and material are appropriate for student and that there is not a learning disability or skill deficiency that could account for the behavior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48E09A-6745-4F81-81D3-66451D85CF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9008B9-DA89-473E-B044-9768E295F6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neaky behavior because we tend to believe the words.  Students say they will do the work, which sounds compliant, but student produces nothing.  This is a choice behavior on the part of the student and shows noncompliance.  (Make sure that you that methods and material are appropriate for student and that there is not a learning disability or skill deficiency that could account for the behavior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778997-723A-47B0-A921-F6EFD32809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neaky behavior because we tend to believe the words.  Students say they will do the work, which sounds compliant, but student produces nothing.  This is a choice behavior on the part of the student and shows noncompliance.  (Make sure that you that methods and material are appropriate for student and that there is not a learning disability or skill deficiency that could account for the behavior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E27CBD-3070-4994-ADCB-E75F690240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neaky behavior because we tend to believe the words.  Students say they will do the work, which sounds compliant, but student produces nothing.  This is a choice behavior on the part of the student and shows noncompliance.  (Make sure that you that methods and material are appropriate for student and that there is not a learning disability or skill deficiency that could account for the behavior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9E7C1D-9338-4937-8B30-B07498A2E9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DE06B9-B138-4862-87ED-3565F5DF74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94B7C0-711B-41FD-8FEE-5B6B03731C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E11D33-8170-4C35-8F91-BF68F0CD9B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4D26A4-5B41-4EC0-8D80-45BC5EED5F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D7E901-666F-48AF-B3AB-DB80DCB780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CF1233-2863-47EF-8B90-7FF66A91C1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3EEB8F-BCAC-4FC6-9C64-218FF8B757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neaky behavior because we tend to believe the words.  Students say they will do the work, which sounds compliant, but student produces nothing.  This is a choice behavior on the part of the student and shows noncompliance.  (Make sure that you that methods and material are appropriate for student and that there is not a learning disability or skill deficiency that could account for the behavior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413835-88B8-400E-A5D9-E0A3DAE4BA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common labels that can be behaviors that are address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3F8D18-2054-4813-BD68-0A51B66985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9A676B-867F-4304-AB89-650D99227F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11703B-3970-43C4-8287-3A2DD683FA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136D3D-F52E-49E7-AC85-AB84C424F0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16E997-3873-438D-BCDB-B77497D59D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94E8FF-E4B1-46C3-B05A-8954ED41E7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1AB3-E9DA-49D6-BF00-8F318F433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EE76-F2C8-41C6-B028-1F5B424D8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8954-3F3D-4A5E-B199-CD43EDAFD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052D-4AC1-4669-9033-AC1F439FF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379A-4C54-4B4D-909C-4834EA918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7F0A-EDB6-48EF-A859-3485069E7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0BFF-0992-4578-819A-AA6EA97F3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C7AE-DA73-4668-9775-983769182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7A0C-FEC1-423E-867D-87B1A42A3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C8C2-C432-4C63-BD2B-8FDFCD75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700C-4171-4FB3-9DC5-03D7DD71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21BF-7AB9-4436-A331-9E8F1491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d4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07CBE1-4A16-44B6-87E0-0E964DAB4A25}" type="datetime">
              <a:rPr b="0" lang="en-US" sz="1200" spc="-1" strike="noStrike">
                <a:solidFill>
                  <a:srgbClr val="898989"/>
                </a:solidFill>
                <a:latin typeface="Corbe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14EBC4-3F0F-4CB9-BFE2-FC250D841736}" type="slidenum">
              <a:rPr b="0" lang="en-US" sz="12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Corbel"/>
              </a:rPr>
              <a:t>Power-Seeking </a:t>
            </a: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Behavior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44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Like attention seeking behavior, power-seeking is displayed in </a:t>
            </a:r>
            <a:r>
              <a:rPr b="0" lang="en-US" sz="4000" spc="-1" strike="noStrike">
                <a:solidFill>
                  <a:srgbClr val="ff0000"/>
                </a:solidFill>
                <a:latin typeface="Corbel"/>
              </a:rPr>
              <a:t>active </a:t>
            </a: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and </a:t>
            </a:r>
            <a:r>
              <a:rPr b="0" lang="en-US" sz="4000" spc="-1" strike="noStrike">
                <a:solidFill>
                  <a:srgbClr val="0000ff"/>
                </a:solidFill>
                <a:latin typeface="Corbel"/>
              </a:rPr>
              <a:t>passive </a:t>
            </a: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modes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Power seeker’s message is: “Let’s fight”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5400" spc="-1" strike="noStrike">
                <a:solidFill>
                  <a:srgbClr val="0000ff"/>
                </a:solidFill>
                <a:latin typeface="Corbel"/>
              </a:rPr>
              <a:t>Review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380880" y="16761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What are the six common passive power plays?  (Hint:  five of them are labels)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Bloom’s literal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5400" spc="-1" strike="noStrike">
                <a:solidFill>
                  <a:srgbClr val="0000ff"/>
                </a:solidFill>
                <a:latin typeface="Corbel"/>
              </a:rPr>
              <a:t>Passive Power Seeking vs.</a:t>
            </a:r>
            <a:br>
              <a:rPr sz="5400"/>
            </a:br>
            <a:r>
              <a:rPr b="0" lang="en-US" sz="5400" spc="-1" strike="noStrike">
                <a:solidFill>
                  <a:srgbClr val="0000ff"/>
                </a:solidFill>
                <a:latin typeface="Corbel"/>
              </a:rPr>
              <a:t>disability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80880" y="16761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rbel"/>
              </a:rPr>
              <a:t>Key tipoff is selectivity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rbel"/>
              </a:rPr>
              <a:t>If student is capable of performing action when he/she selects independently but not when asked, you can be fairly sure you are dealing with a passive bid for power.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rbel"/>
              </a:rPr>
              <a:t>If you suspect a disability, be sure to make referral to support staff, beginning with guidance office.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Corbel"/>
              </a:rPr>
              <a:t>Power-Seeking </a:t>
            </a: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Behavior Clues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685440" y="17524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43040" indent="-743040">
              <a:spcBef>
                <a:spcPts val="924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rbel"/>
              </a:rPr>
              <a:t>Our emotional pressure gauge rises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marL="743040" indent="-743040">
              <a:spcBef>
                <a:spcPts val="924"/>
              </a:spcBef>
              <a:buClr>
                <a:srgbClr val="000000"/>
              </a:buClr>
              <a:buFont typeface="Corbel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rbel"/>
              </a:rPr>
              <a:t>Our impulsive reaction is to regain control by fighting back with words.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marL="743040" indent="-743040">
              <a:spcBef>
                <a:spcPts val="924"/>
              </a:spcBef>
              <a:buClr>
                <a:srgbClr val="000000"/>
              </a:buClr>
              <a:buFont typeface="Corbel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rbel"/>
              </a:rPr>
              <a:t>Student’s response to correction is slow and reluctant compared to an attention seeker.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b50b1b"/>
                </a:solidFill>
                <a:latin typeface="Corbel"/>
              </a:rPr>
              <a:t> </a:t>
            </a:r>
            <a:r>
              <a:rPr b="0" lang="en-US" sz="5400" spc="-1" strike="noStrike">
                <a:solidFill>
                  <a:srgbClr val="b50b1b"/>
                </a:solidFill>
                <a:latin typeface="Corbel"/>
              </a:rPr>
              <a:t>Responses</a:t>
            </a:r>
            <a:br>
              <a:rPr sz="5400"/>
            </a:br>
            <a:r>
              <a:rPr b="0" lang="en-US" sz="5400" spc="-1" strike="noStrike">
                <a:solidFill>
                  <a:srgbClr val="b50b1b"/>
                </a:solidFill>
                <a:latin typeface="Corbel"/>
              </a:rPr>
              <a:t>of power hungry students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380880" y="16761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Respond to correction s-l-o-w-l-y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Repeat the behavior one more time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Mumble under their breath—loud enough for us to know they are muttering but not loud enough to hear the exact words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Principles of prevention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380880" y="16761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43040" indent="-743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Allow voice and choice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743040" indent="-743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Grant legitimate power.  (What type of management style discussed in the 1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rbel"/>
              </a:rPr>
              <a:t>st</a:t>
            </a: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 lesson would work to help prevent power struggles? *)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743040" indent="-743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Delegate responsibility.  (Give students a sense of ownership.)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*Bloom’s level of understanding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b50b1b"/>
                </a:solidFill>
                <a:latin typeface="Corbel"/>
              </a:rPr>
              <a:t> </a:t>
            </a:r>
            <a:r>
              <a:rPr b="0" lang="en-US" sz="5400" spc="-1" strike="noStrike">
                <a:solidFill>
                  <a:srgbClr val="b50b1b"/>
                </a:solidFill>
                <a:latin typeface="Corbel"/>
              </a:rPr>
              <a:t>Revenge-seeking behavior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380880" y="16761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Retaliation for real or imagined hurts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ould be a result of lost power struggle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ould be anger at parents, other teachers, administrators or peers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1749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b50b1b"/>
                </a:solidFill>
                <a:latin typeface="Corbel"/>
              </a:rPr>
              <a:t> </a:t>
            </a:r>
            <a:r>
              <a:rPr b="0" lang="en-US" sz="5400" spc="-1" strike="noStrike">
                <a:solidFill>
                  <a:srgbClr val="b50b1b"/>
                </a:solidFill>
                <a:latin typeface="Corbel"/>
              </a:rPr>
              <a:t>Revenge-seeking behavior</a:t>
            </a:r>
            <a:br>
              <a:rPr sz="5400"/>
            </a:br>
            <a:r>
              <a:rPr b="0" lang="en-US" sz="5400" spc="-1" strike="noStrike">
                <a:solidFill>
                  <a:srgbClr val="b50b1b"/>
                </a:solidFill>
                <a:latin typeface="Corbel"/>
              </a:rPr>
              <a:t>“I’ll get even”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380880" y="20570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43040" indent="-743040">
              <a:spcBef>
                <a:spcPts val="1001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Direct physical attacks (active)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743040" indent="-743040">
              <a:spcBef>
                <a:spcPts val="1001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Indirect physical attacks (active)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743040" indent="-743040">
              <a:spcBef>
                <a:spcPts val="1001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Psychological attacks (active)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743040" indent="-743040">
              <a:spcBef>
                <a:spcPts val="1001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Violation of values (active)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743040" indent="-743040">
              <a:spcBef>
                <a:spcPts val="1001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Withdrawal (passive)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Corbel"/>
              </a:rPr>
              <a:t>Revenge-Seeking </a:t>
            </a: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Behavior Clues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0" y="17524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43040" indent="-743040">
              <a:spcBef>
                <a:spcPts val="1001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Our pressure gauge is is at the boiling point.  We feel anger, frustration, hurt and dislike for student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743040" indent="-743040">
              <a:spcBef>
                <a:spcPts val="1001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Our reaction is to strike back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743040" indent="-743040">
              <a:spcBef>
                <a:spcPts val="1001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Students behavior usually intensifies before it stops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400"/>
            </a:br>
            <a:r>
              <a:rPr b="0" lang="en-US" sz="4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4800" spc="-1" strike="noStrike">
                <a:solidFill>
                  <a:srgbClr val="ff0000"/>
                </a:solidFill>
                <a:latin typeface="Corbel"/>
              </a:rPr>
              <a:t>Guidelines for interventions </a:t>
            </a:r>
            <a:br>
              <a:rPr sz="4800"/>
            </a:br>
            <a:r>
              <a:rPr b="0" lang="en-US" sz="4800" spc="-1" strike="noStrike">
                <a:solidFill>
                  <a:srgbClr val="ff0000"/>
                </a:solidFill>
                <a:latin typeface="Corbel"/>
              </a:rPr>
              <a:t>for power and revenge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2824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43040" indent="-74304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rbel"/>
              </a:rPr>
              <a:t>Build caring relationships. (Separate the deed from the doer.)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marL="743040" indent="-74304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rbel"/>
              </a:rPr>
              <a:t>Deal with the moment.  Avoid references to the past or the future.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marL="743040" indent="-74304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rbel"/>
              </a:rPr>
              <a:t>Teach appropriate expressions of feeling.  (Invite them to talk when they are upset.)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marL="743040" indent="-74304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700" spc="-1" strike="noStrike">
                <a:solidFill>
                  <a:srgbClr val="000000"/>
                </a:solidFill>
                <a:latin typeface="Corbel"/>
              </a:rPr>
              <a:t>Be firm and friendly.  “What you are doing must stop right now, but I still like you.”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7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281160" indent="-281160">
              <a:spcBef>
                <a:spcPts val="1001"/>
              </a:spcBef>
              <a:buClr>
                <a:srgbClr val="000000"/>
              </a:buClr>
              <a:buFont typeface="Corbel"/>
              <a:buAutoNum type="arabicPeriod" startAt="4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ontrol negative emotions—anger, frustration, fear.  Feel free to release negative emotions later—in private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281160" indent="-28116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5.  Avoid escalating the situation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281160" indent="-28116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6.  Discuss misbehavior later—avoids emotionalism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281160" indent="-28116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7. Allow students to save face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Active Power Seeking 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hallenging authority:  “You can’t make me do it.”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    “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r. Holley doesn’t make his class do the extra stuff, so I’m not going to do it either.”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aking noise or drawing attention to themselv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Assignment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Role playing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Teacher behavior that escalates the situation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Teacher behavior that defuses the situation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Teacher behaviors to avoid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417320"/>
            <a:ext cx="403848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Raising voice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Yellin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Saying, “I’m the boss here”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Insisting on the last word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Using degrading or embarrassing put-down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Using sarcasm or humiliation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Attacking student’s charact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Acting superio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Using physical force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Using sarcasm or humiliation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Attacking student’s charact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Acting superio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Using physical force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Source:  </a:t>
            </a: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Cooperative Discipline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by Linda Alber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48320" y="1417680"/>
            <a:ext cx="40384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Insisting teacher is righ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Preachin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Making assumption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Pleading or bribin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Generalizing about students (“All you _________’s are the same way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Making unsubstantiated accusation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Holding a grudge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Naggin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Throwing a temper tantrum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Mimicking the studen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Making comparisons with siblings, other student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Commanding, demanding, dominatin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Rewarding the studen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5400" spc="-1" strike="noStrike">
                <a:solidFill>
                  <a:srgbClr val="0000ff"/>
                </a:solidFill>
                <a:latin typeface="Corbel"/>
              </a:rPr>
              <a:t>Passive Power Seeking Styles</a:t>
            </a:r>
            <a:br>
              <a:rPr sz="5400"/>
            </a:br>
            <a:r>
              <a:rPr b="0" lang="en-US" sz="5400" spc="-1" strike="noStrike">
                <a:solidFill>
                  <a:srgbClr val="1d86cd"/>
                </a:solidFill>
                <a:latin typeface="Corbel"/>
              </a:rPr>
              <a:t>Quiet </a:t>
            </a: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noncompliance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80880" y="16761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Avoid obvious battle by smiling and say what teachers want to hear but. . . . . . .Doing what they want to do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Words say “I will” but actions say “I won’t”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887400"/>
            <a:ext cx="9144000" cy="78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5400" spc="-1" strike="noStrike">
                <a:solidFill>
                  <a:srgbClr val="0000ff"/>
                </a:solidFill>
                <a:latin typeface="Corbel"/>
              </a:rPr>
              <a:t>Labels of Passive Behavior</a:t>
            </a:r>
            <a:br>
              <a:rPr sz="5400"/>
            </a:b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880" y="16761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Lazy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Forgetful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Short attention span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Underachieving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Listening problems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5400" spc="-1" strike="noStrike">
                <a:solidFill>
                  <a:srgbClr val="0000ff"/>
                </a:solidFill>
                <a:latin typeface="Corbel"/>
              </a:rPr>
              <a:t>Lazy</a:t>
            </a:r>
            <a:br>
              <a:rPr sz="5400"/>
            </a:br>
            <a:r>
              <a:rPr b="0" lang="en-US" sz="5400" spc="-1" strike="noStrike">
                <a:solidFill>
                  <a:srgbClr val="1d86cd"/>
                </a:solidFill>
                <a:latin typeface="Corbe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880" y="16761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Student shows up without assignment and says, “Sorry, I was lazy.  I’ll have it next time” instead of “I really didn’t feel like doing homework this weekend.”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hosen behavior that we can work to change, especially after it has been identified as power seeking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5400" spc="-1" strike="noStrike">
                <a:solidFill>
                  <a:srgbClr val="0000ff"/>
                </a:solidFill>
                <a:latin typeface="Corbel"/>
              </a:rPr>
              <a:t>Forgetful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80880" y="16761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I forgot to do it” sounds better than “I refused  to do it.”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Selective ‘forgetfulness’  Student can remember other, more pleasant, things like phone numbers and TV shows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5400" spc="-1" strike="noStrike">
                <a:solidFill>
                  <a:srgbClr val="0000ff"/>
                </a:solidFill>
                <a:latin typeface="Corbel"/>
              </a:rPr>
              <a:t>Short attention span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80880" y="16761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Selective attention is chosen as reason for not concentrating in class, but the same student can play same video game for hours trying to win the game.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5400" spc="-1" strike="noStrike">
                <a:solidFill>
                  <a:srgbClr val="0000ff"/>
                </a:solidFill>
                <a:latin typeface="Corbel"/>
              </a:rPr>
              <a:t>Underachieving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380880" y="16761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Student decides how much work he/she will do and at what level he/she will achieve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Student has capability of earning As while his/her average is C because he/she makes the </a:t>
            </a:r>
            <a:r>
              <a:rPr b="0" lang="en-US" sz="4000" spc="-1" strike="noStrike">
                <a:solidFill>
                  <a:srgbClr val="b50b1b"/>
                </a:solidFill>
                <a:latin typeface="Corbel"/>
              </a:rPr>
              <a:t>choice </a:t>
            </a: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in study habits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5400" spc="-1" strike="noStrike">
                <a:solidFill>
                  <a:srgbClr val="0000ff"/>
                </a:solidFill>
                <a:latin typeface="Corbel"/>
              </a:rPr>
              <a:t>Listening problems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80880" y="16761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Hear what is said but choose not to listen—either to notes or assignments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Again, the student is choosing not to hear what is needed and is displaying a form a passive power play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1T14:33:49Z</dcterms:created>
  <dc:creator>Sharon winzeler</dc:creator>
  <dc:description/>
  <dc:language>en-US</dc:language>
  <cp:lastModifiedBy>Sharon Winzeler</cp:lastModifiedBy>
  <cp:lastPrinted>2010-07-11T18:20:51Z</cp:lastPrinted>
  <dcterms:modified xsi:type="dcterms:W3CDTF">2010-07-12T11:51:50Z</dcterms:modified>
  <cp:revision>24</cp:revision>
  <dc:subject/>
  <dc:title>Slide 1</dc:title>
</cp:coreProperties>
</file>