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F66CF-08A1-43E8-B8F2-1D51707498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546FD3-6BC8-4066-9C79-2564E2029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3D257-F6F2-4C04-826F-A9C4CEA61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CD0B0-F674-470D-B5EC-814D1C174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634FF-4554-4D52-8AB9-5F464CB55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5BC63-0DE3-40E2-AD89-5BC9B09C8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93889-B04D-46A7-9362-5AA7518B7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473D6-A34D-4A94-A2D0-74AC3A647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70F58-3628-4965-9ECD-D596EF5BB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8D4F5-449F-45B8-AC79-7284AFE22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3B204-5077-4091-8F65-1C9042206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E906C-AE51-4316-8FAE-6D85969BE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19DE5-C35C-4601-9BBE-630A104C0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AFE30-031F-4985-9CB2-BECCB683D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F61E8-8D01-43BA-922A-A265F5AC5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49FC9-FF39-4444-9EFF-9590830C3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C93F1-E375-489E-B52E-F3FD91BBD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labels that can be behaviors that are addres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92D4B-EE14-4A0C-AACF-387AA6456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612FD-6765-4449-8B1F-F4EA6B7FD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9301E-AD83-47B3-9370-F589DD002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BE5EC-716E-4EEB-A01B-01C2519C0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9E3D1-7774-41E7-A4C2-513EFE5EC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7F014-1FAE-4ACD-9FDE-03A7C95EB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F62-B89A-48E0-9D3D-C061DFDE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F6D-F277-44BF-9295-FF78A8FE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1BAE-4B53-4F5E-9C6E-8E7376D2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F8C-3DE2-47B8-9351-DB55B29C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03A4-E8BE-45F1-BDF1-9CD19B1A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1E8-9D72-4CB7-8439-010371BF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43B6-E21D-4BFC-82BD-37121D20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018C-DD70-49D5-9071-461494F9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D76-9750-4A3D-8173-055B2E72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5C5-74A5-46D6-9283-2CE95753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26B-2DD4-4910-8675-2ADF927E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F1BB-B85D-440C-80F9-633471AD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4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846F4-EA6C-4C5C-B1B6-2F99DBC20034}" type="datetime">
              <a:rPr b="0" lang="en-US" sz="1200" spc="-1" strike="noStrike">
                <a:solidFill>
                  <a:srgbClr val="898989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1F209-8A1B-4F23-B670-EB0079FB8D1F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rbel"/>
              </a:rPr>
              <a:t>Power-Seeking </a:t>
            </a: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Behavior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Like attention seeking behavior, power-seeking is displayed in 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active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lang="en-US" sz="4000" spc="-1" strike="noStrike">
                <a:solidFill>
                  <a:srgbClr val="0000ff"/>
                </a:solidFill>
                <a:latin typeface="Corbel"/>
              </a:rPr>
              <a:t>passive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mode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Power seeker’s message is: “Let’s fight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Review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hat are the six common passive power plays?  (Hint:  five of them are labels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Bloom’s literal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Passive Power Seeking vs.</a:t>
            </a: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disability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Key tipoff is selectivity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If student is capable of performing action when he/she selects independently but not when asked, you can be fairly sure you are dealing with a passive bid for power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If you suspect a disability, be sure to make referral to support staff, beginning with guidance office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rbel"/>
              </a:rPr>
              <a:t>Power-Seeking </a:t>
            </a: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Behavior Clues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Our emotional pressure gauge rises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924"/>
              </a:spcBef>
              <a:buClr>
                <a:srgbClr val="000000"/>
              </a:buClr>
              <a:buFont typeface="Corbe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Our impulsive reaction is to regain control by fighting back with words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924"/>
              </a:spcBef>
              <a:buClr>
                <a:srgbClr val="000000"/>
              </a:buClr>
              <a:buFont typeface="Corbe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Student’s response to correction is slow and reluctant compared to an attention seeker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Responses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of power hungry students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espond to correction s-l-o-w-l-y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epeat the behavior one more tim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Mumble under their breath—loud enough for us to know they are muttering but not loud enough to hear the exact word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Principles of prevention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llow voice and choic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Grant legitimate power.  (What type of management style discussed in the 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 lesson would work to help prevent power struggles? *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Delegate responsibility.  (Give students a sense of ownership.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*Bloom’s level of understanding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Revenge-seeking behavior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etaliation for real or imagined hurt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ould be a result of lost power struggl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ould be anger at parents, other teachers, administrators or peer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174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Revenge-seeking behavior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“I’ll get even”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Direct physical attacks (act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ndirect physical attacks (active)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Psychological attacks (act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Violation of values (act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ithdrawal (pass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rbel"/>
              </a:rPr>
              <a:t>Revenge-Seeking </a:t>
            </a: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Behavior Clue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Our pressure gauge is is at the boiling point.  We feel anger, frustration, hurt and dislike for studen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Our reaction is to strike back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s behavior usually intensifies before it stop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Corbel"/>
              </a:rPr>
              <a:t>Guidelines for interventions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Corbel"/>
              </a:rPr>
              <a:t>for power and reveng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Build caring relationships. (Separate the deed from the doer.)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Deal with the moment.  Avoid references to the past or the future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Teach appropriate expressions of feeling.  (Invite them to talk when they are upset.)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Be firm and friendly.  “What you are doing must stop right now, but I still like you.”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Corbel"/>
              <a:buAutoNum type="arabicPeriod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ontrol negative emotions—anger, frustration, fear.  Feel free to release negative emotions later—in privat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5.  Avoid escalating the situatio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6.  Discuss misbehavior later—avoids emotionalism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7. Allow students to save fac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ctive Power Seeking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llenging authority:  “You can’t make me do it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r. Holley doesn’t make his class do the extra stuff, so I’m not going to do it either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king noise or drawing attention to themselv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ole playing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Teacher behavior that escalates the situation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Teacher behavior that defuses the situation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Teacher behaviors to avoid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732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aising voi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Yell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aying, “I’m the boss here”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nsisting on the last wor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degrading or embarrassing put-down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sarcasm or humil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ttacking student’s charac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cting superio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physical for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sarcasm or humil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ttacking student’s charac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cting superio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physical for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urce:  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operative Discipline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by Linda Albe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4176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nsisting teacher is righ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reach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king assumption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leading or brib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neralizing about students (“All you _________’s are the same way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king unsubstantiated accusation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Holding a grudg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Nagg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rowing a temper tantrum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imicking the stud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king comparisons with siblings, other stude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ommanding, demanding, dominat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ewarding the stud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Passive Power Seeking Styles</a:t>
            </a:r>
            <a:br>
              <a:rPr sz="5400"/>
            </a:br>
            <a:r>
              <a:rPr b="0" lang="en-US" sz="5400" spc="-1" strike="noStrike">
                <a:solidFill>
                  <a:srgbClr val="1d86cd"/>
                </a:solidFill>
                <a:latin typeface="Corbel"/>
              </a:rPr>
              <a:t>Quiet </a:t>
            </a: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noncompliance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void obvious battle by smiling and say what teachers want to hear but. . . . . . .Doing what they want to do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ords say “I will” but actions say “I won’t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88740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Labels of Passive Behavior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Lazy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Forgetful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hort attention spa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Underachieving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Listening problem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Lazy</a:t>
            </a:r>
            <a:br>
              <a:rPr sz="5400"/>
            </a:br>
            <a:r>
              <a:rPr b="0" lang="en-US" sz="5400" spc="-1" strike="noStrike">
                <a:solidFill>
                  <a:srgbClr val="1d86cd"/>
                </a:solidFill>
                <a:latin typeface="Corbe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 shows up without assignment and says, “Sorry, I was lazy.  I’ll have it next time” instead of “I really didn’t feel like doing homework this weekend.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hosen behavior that we can work to change, especially after it has been identified as power seeking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Forgetful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 forgot to do it” sounds better than “I refused  to do it.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elective ‘forgetfulness’  Student can remember other, more pleasant, things like phone numbers and TV show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Short attention span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elective attention is chosen as reason for not concentrating in class, but the same student can play same video game for hours trying to win the game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Underachieving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 decides how much work he/she will do and at what level he/she will achiev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 has capability of earning As while his/her average is C because he/she makes the </a:t>
            </a:r>
            <a:r>
              <a:rPr b="0" lang="en-US" sz="4000" spc="-1" strike="noStrike">
                <a:solidFill>
                  <a:srgbClr val="b50b1b"/>
                </a:solidFill>
                <a:latin typeface="Corbel"/>
              </a:rPr>
              <a:t>choice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n study habit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Listening problems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Hear what is said but choose not to listen—either to notes or assignment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gain, the student is choosing not to hear what is needed and is displaying a form a passive power play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14:33:49Z</dcterms:created>
  <dc:creator>Sharon winzeler</dc:creator>
  <dc:description/>
  <dc:language>en-US</dc:language>
  <cp:lastModifiedBy>Sharon Winzeler</cp:lastModifiedBy>
  <cp:lastPrinted>2010-07-11T18:20:51Z</cp:lastPrinted>
  <dcterms:modified xsi:type="dcterms:W3CDTF">2010-07-12T11:51:50Z</dcterms:modified>
  <cp:revision>24</cp:revision>
  <dc:subject/>
  <dc:title>Slide 1</dc:title>
</cp:coreProperties>
</file>