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3529F-B579-418C-893B-1ED0684261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50E8F-837F-4BD2-82FD-13D8AF4B8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B5196-B588-46FD-AE24-6004ADD53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6C1E0-E48A-472D-A77B-01C116B91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44E84-FD10-41F8-9BDB-79B976BD7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ABCD8-8B19-4399-B846-76C757C6A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71D18-5DFC-494B-8BBE-53E8EF956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619B7-A277-4324-8AC6-545B15FED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64C84-E9A9-4609-BDC2-6C6DB0056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C913D-5021-46AA-B535-25A1D094D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12704-1BC4-4A56-82DD-7928EDA0A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0C502-E817-4955-AED7-886094C15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01A07-22B2-4F90-9349-7C51843DC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F7463-BDBD-4D24-9C6F-425524427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71924-586A-4B67-9E99-7B071AC16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937E8-6108-4156-BD10-880A59072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4D71D-CC09-4DD6-9A61-654A8992A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labels that can be behaviors that are addres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21FC4-2EA2-4A2F-886A-AAAB4DE10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DDD01-9B29-4F69-9DC3-F83C28876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11BE5-4385-41A8-BE96-98BDA46A9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E9A2D-B995-47DA-96FD-DBB4A7381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60239-2432-484D-9FBA-56909E268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7723E-92D2-495A-83DC-62EE4B18C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289-7A11-4737-A264-1863A18B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561-30CC-4C06-989B-5D7EE61A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A8BD-CFD6-4393-9484-1D8FCCE5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73B-B213-40A9-9C46-1F13AD0A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422-B7CB-4D60-8140-5947A633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72F-69CA-41FC-AB8C-CAA25CDE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9B5-8663-493A-8F96-E9A06A22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2F2-D277-4BF4-9EDE-F63E9382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4F1-D8CE-4C78-A546-BE39612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FE5-ABDD-42C4-BE6B-7DAAD57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F5F-9DBC-4A20-B8BF-AEE24360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E9B-F3A0-4D83-870C-4D91EFA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819DF-5E55-4659-902F-EE1D97FA25AE}" type="datetime">
              <a:rPr b="0" lang="en-US" sz="1200" spc="-1" strike="noStrike">
                <a:solidFill>
                  <a:srgbClr val="898989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7F8AF-D14F-47EE-A317-D3476EE188B5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ke attention seeking behavior, power-seeking is displayed in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act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4000" spc="-1" strike="noStrike">
                <a:solidFill>
                  <a:srgbClr val="0000ff"/>
                </a:solidFill>
                <a:latin typeface="Corbel"/>
              </a:rPr>
              <a:t>pass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ode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ower seeker’s message is: “Let’s figh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are the six common passive power plays?  (Hint:  five of them are labels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Bloom’s litera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vs.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disability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Key tipoff is selectivity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student is capable of performing action when he/she selects independently but not when asked, you can be fairly sure you are dealing with a passive bid for pow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you suspect a disability, be sure to make referral to support staff, beginning with guidance offic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emotional pressure gauge rises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impulsive reaction is to regain control by fighting back with words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Student’s response to correction is slow and reluctant compared to an attention seek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sponses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of power hungry student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spond to correction s-l-o-w-l-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peat the behavior one more tim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umble under their breath—loud enough for us to know they are muttering but not loud enough to hear the exact word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Principles of preventio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llow voice and choi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Grant legitimate power.  (What type of management style discussed in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 lesson would work to help prevent power struggles? *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elegate responsibility.  (Give students a sense of ownership.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*Bloom’s level of understand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taliation for real or imagined hurt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 result of lost power struggl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nger at parents, other teachers, administrators or pe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17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“I’ll get even”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irect phys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direct physical attacks (active)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sycholog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Violation of value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ithdrawal (pass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Revenge-Seeking 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pressure gauge is is at the boiling point.  We feel anger, frustration, hurt and dislike for studen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reaction is to strike back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s behavior usually intensifies before it stop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Guidelines for interventions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for power and reveng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uild caring relationships. (Separate the deed from the doer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Deal with the moment.  Avoid references to the past or the futur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Teach appropriate expressions of feeling.  (Invite them to talk when they are upset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e firm and friendly.  “What you are doing must stop right now, but I still like you.”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Corbel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ntrol negative emotions—anger, frustration, fear.  Feel free to release negative emotions later—in priv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5.  Avoid escalating the situa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6.  Discuss misbehavior later—avoids emotionalism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7. Allow students to save fa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ctive Power Seeking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llenging authority:  “You can’t make me do i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. Holley doesn’t make his class do the extra stuff, so I’m not going to do it either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ing noise or drawing attention to themselv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ole play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escalat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defus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Teacher behaviors to avoid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732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aising voi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el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ying, “I’m the boss here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on the last wor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degrading or embarrassing put-dow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urce: 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operative Discipline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y Linda Albe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4176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teacher is righ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reach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assump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leading or brib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neralizing about students (“All you _________’s are the same way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unsubstantiated accusa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olding a grudg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Nagg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rowing a temper tantru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imick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comparisons with siblings, other stud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mmanding, demanding, dominat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ward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Styles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Quiet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noncompliance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void obvious battle by smiling and say what teachers want to hear but. . . . . . .Doing what they want to do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ords say “I will” but actions say “I won’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8740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bels of Passive Behavior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az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Forgetfu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ort attention spa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Underachiev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stening problem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zy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shows up without assignment and says, “Sorry, I was lazy.  I’ll have it next time” instead of “I really didn’t feel like doing homework this weekend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hosen behavior that we can work to change, especially after it has been identified as power seeking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Forgetful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forgot to do it” sounds better than “I refused  to do it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‘forgetfulness’  Student can remember other, more pleasant, things like phone numbers and TV show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Short attention spa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attention is chosen as reason for not concentrating in class, but the same student can play same video game for hours trying to win the game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Underachieving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decides how much work he/she will do and at what level he/she will achie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has capability of earning As while his/her average is C because he/she makes the </a:t>
            </a:r>
            <a:r>
              <a:rPr b="0" lang="en-US" sz="4000" spc="-1" strike="noStrike">
                <a:solidFill>
                  <a:srgbClr val="b50b1b"/>
                </a:solidFill>
                <a:latin typeface="Corbel"/>
              </a:rPr>
              <a:t>choic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 study habi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istening problem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ear what is said but choose not to listen—either to notes or assignmen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gain, the student is choosing not to hear what is needed and is displaying a form a passive power pla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4:33:49Z</dcterms:created>
  <dc:creator>Sharon winzeler</dc:creator>
  <dc:description/>
  <dc:language>en-US</dc:language>
  <cp:lastModifiedBy>Sharon Winzeler</cp:lastModifiedBy>
  <cp:lastPrinted>2010-07-11T18:20:51Z</cp:lastPrinted>
  <dcterms:modified xsi:type="dcterms:W3CDTF">2010-07-12T11:51:50Z</dcterms:modified>
  <cp:revision>24</cp:revision>
  <dc:subject/>
  <dc:title>Slide 1</dc:title>
</cp:coreProperties>
</file>